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795781"/>
        <c:axId val="10884559"/>
      </c:barChart>
      <c:catAx>
        <c:axId val="177957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84559"/>
        <c:crosses val="autoZero"/>
        <c:auto val="1"/>
        <c:lblAlgn val="ctr"/>
        <c:lblOffset val="100"/>
        <c:noMultiLvlLbl val="0"/>
      </c:catAx>
      <c:valAx>
        <c:axId val="108845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957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67D3-2C28-44E4-8541-02D92322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9C1D-E3A5-4378-A1A8-E014435D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4EB9-3D9B-4A76-8456-732D16DE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A4E8-9A45-4A0D-A3E7-00FBADB08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D05C-C717-4E76-B25C-D1044E14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E056-7FB7-405A-805C-4C44F92E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949A-4DBC-4012-92E3-2AE20CEB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1236-2CC4-4026-941E-0BB339F6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9F52-5A3E-4769-9A2D-A4A694F2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6E71-53F5-437C-AA30-22D13F88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4158-F433-4E1A-B8CC-263D849C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5B85-597A-4ABC-A25E-C43E03A9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CD08D-66B9-4F1E-981B-43C8AF9641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