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559333"/>
        <c:axId val="52754438"/>
      </c:barChart>
      <c:catAx>
        <c:axId val="525593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54438"/>
        <c:crosses val="autoZero"/>
        <c:auto val="1"/>
        <c:lblAlgn val="ctr"/>
        <c:lblOffset val="100"/>
        <c:noMultiLvlLbl val="0"/>
      </c:catAx>
      <c:valAx>
        <c:axId val="527544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593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A202-3807-48AD-830A-64BDDBF1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3740-CF7C-403C-982D-53DA3AD1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6AEC-0A58-496B-A4BD-72D2E99D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B384-E448-4C68-BEF0-D8DCC9871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3015-A399-44A8-859C-2897B8F3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8272-FC73-4B08-B8C7-694D8BC2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D30C-85EA-4FF0-9AE6-217C2DAF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6E71-DB76-4050-82FE-F8A68291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C31E-D7F7-4B26-B53E-F621D8E8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4FCA-20AF-492D-9D8E-45C29867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08D8-CD86-4595-A08B-2DBDCFC5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3306-3E8D-45BD-90CD-6BB599A0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B03D7-7C4C-42D4-8D93-C9E552678C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