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917629"/>
        <c:axId val="97773451"/>
      </c:barChart>
      <c:catAx>
        <c:axId val="129176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73451"/>
        <c:crosses val="autoZero"/>
        <c:auto val="1"/>
        <c:lblAlgn val="ctr"/>
        <c:lblOffset val="100"/>
        <c:noMultiLvlLbl val="0"/>
      </c:catAx>
      <c:valAx>
        <c:axId val="977734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9176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CFB5-5668-4C57-B250-7E835315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430-085D-44D1-AE94-0990690E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524-6DE6-4056-8CD3-4BE92532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8CEF-4B75-4ED8-9B21-059E5AF8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22D-AC39-4BD9-B47E-4BE21CB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47A-F67F-4DAB-86B6-12B4A2FE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3418-6CCF-41EE-8EAD-228ADBB5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2022-25FF-45FC-8441-94513719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2FC-AE85-434E-87C8-C6A6FECA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B6A2-31F4-4388-A7B5-5A458E9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8A6C-BC68-4456-BE93-92494C3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D0F-C0CB-4E6D-B3FF-64E08248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BA778-5378-472F-83E6-9AAD5A1779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