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164381"/>
        <c:axId val="79889812"/>
      </c:barChart>
      <c:catAx>
        <c:axId val="641643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89812"/>
        <c:crosses val="autoZero"/>
        <c:auto val="1"/>
        <c:lblAlgn val="ctr"/>
        <c:lblOffset val="100"/>
        <c:noMultiLvlLbl val="0"/>
      </c:catAx>
      <c:valAx>
        <c:axId val="798898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1643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3600-BAB9-4227-9CB9-2D6F2D1D2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EF16-0784-4E28-ABDE-3F4540A5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BDFA-57A8-4CEC-96B8-29B0727B0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F913-D6D6-4A5D-A0F4-D0698B480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4D35-EFAC-407E-83F5-3C8BF6C1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D72C-04EC-4A52-AD76-FC34D7D2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CCBD-CBDA-43D1-8462-0C4A1444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EC55-E1FB-44E8-BE56-3B1A00B0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1C69-969C-426C-9989-345684D1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EA22-CACE-4485-86A0-B83A8C6A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AFB0-B8E7-4C57-A0D5-948DC909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26E9-DAF6-4498-967E-683FD189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24F21-4C73-4598-8C2C-4A5CC6EF2B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