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456162"/>
        <c:axId val="91018631"/>
      </c:barChart>
      <c:catAx>
        <c:axId val="814561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18631"/>
        <c:crosses val="autoZero"/>
        <c:auto val="1"/>
        <c:lblAlgn val="ctr"/>
        <c:lblOffset val="100"/>
        <c:noMultiLvlLbl val="0"/>
      </c:catAx>
      <c:valAx>
        <c:axId val="910186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561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60D-9C6B-44DE-A5E2-9950E52B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F5F-8F4A-4FAB-A077-114580EB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E33D-D8A3-4871-8204-C0CC04D7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7BC-D281-4380-9A2B-B8EA4E10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8F59-1A86-4970-AD3C-2691007F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ECB-70E2-448F-BA53-52DEDB75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83DD-8C02-4449-8581-C4299125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A227-E880-4C07-AB04-58DD9A0F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86F1-8ABD-489F-B576-87934F43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44E-2963-49F5-8CAF-25A59737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96CC-E530-4912-A146-2A458C0F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949-B907-467D-A6ED-9036721C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7343D-B251-43FE-8A57-7A6C947900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