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426988"/>
        <c:axId val="14152061"/>
      </c:barChart>
      <c:catAx>
        <c:axId val="794269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52061"/>
        <c:crosses val="autoZero"/>
        <c:auto val="1"/>
        <c:lblAlgn val="ctr"/>
        <c:lblOffset val="100"/>
        <c:noMultiLvlLbl val="0"/>
      </c:catAx>
      <c:valAx>
        <c:axId val="141520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269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6AC-1070-40D0-98D4-BB137D29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E06D-33E1-4A00-A4F1-46C53896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DD2-5E43-4E4B-9FC0-D459674F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DA7-4467-475E-9780-379A7C01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BFBD-EAA5-46DA-8664-CCCB7F54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CE6B-D5DC-4440-B107-22F0E1AC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1A4-E93B-491D-B64E-07073298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AF0B-ED53-4CDA-A484-A28D3C9F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1D92-FB6A-4DB7-AB67-340CFF3E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EC8-D79D-497A-A71F-0DB25D29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686C-513D-4B05-8B8B-3F9F44EC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1B3F-AE31-4371-93A3-20D24808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5DD35-CA93-4E66-ADA1-483EEBFEBC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