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71516"/>
        <c:axId val="96471158"/>
      </c:barChart>
      <c:catAx>
        <c:axId val="31071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1158"/>
        <c:crosses val="autoZero"/>
        <c:auto val="1"/>
        <c:lblAlgn val="ctr"/>
        <c:lblOffset val="100"/>
        <c:noMultiLvlLbl val="0"/>
      </c:catAx>
      <c:valAx>
        <c:axId val="96471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71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86E-738A-45D0-A33D-06C4AA50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186-B2E6-4CE4-8845-8BE07FB1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102-F119-4019-835D-884214E6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A42-BD71-47DC-BC07-3B2A2BA5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A36-797E-4848-96FB-D65DF3F5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428-E9F8-4E21-BABF-62D07CC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C3B-25AC-46EC-815C-EEB06339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660-B25A-4658-B1CF-9F062E32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5F0-313D-453C-9DD8-7E487167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0C5-3D67-40F2-B2F2-572CA6F1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C38-AD3D-4034-9232-CBFA3FB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4B9-0F0A-4306-BF6B-624F786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F22D6-37E5-43F8-BA83-D065826DE2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