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73821"/>
        <c:axId val="65500807"/>
      </c:barChart>
      <c:catAx>
        <c:axId val="29573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00807"/>
        <c:crosses val="autoZero"/>
        <c:auto val="1"/>
        <c:lblAlgn val="ctr"/>
        <c:lblOffset val="100"/>
        <c:noMultiLvlLbl val="0"/>
      </c:catAx>
      <c:valAx>
        <c:axId val="65500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73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97D-FFF8-42AB-835F-5331B95F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0AA-DD91-4BA9-A990-149329AB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B7E-19DF-458C-9C95-EBFC8AFC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680-E8EF-4166-8408-F7140A83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83C-7660-452A-82FA-564BAF2C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171-673B-4BB0-A4A0-33903CD5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FF0-8FE2-4D70-9E15-2405EBCE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E91-BB8E-4334-B6DB-76EA7D48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5BB-4431-4FA4-AD0B-C164A21D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ACD-6870-4F31-9091-23719AF9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83E-1F2F-4380-8407-CAFC19B6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1FA-95BB-419F-9B70-662ACF40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98BAA-CE8D-4A71-BEE7-3269149ED2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