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430718"/>
        <c:axId val="16406297"/>
      </c:barChart>
      <c:catAx>
        <c:axId val="184307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406297"/>
        <c:crosses val="autoZero"/>
        <c:auto val="1"/>
        <c:lblAlgn val="ctr"/>
        <c:lblOffset val="100"/>
        <c:noMultiLvlLbl val="0"/>
      </c:catAx>
      <c:valAx>
        <c:axId val="164062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307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F0AF-BCBA-46A5-BFBE-7DC64665D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D962-E868-478F-BEF4-BA26FAA5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D33F-16D7-40E5-9B8F-E28816A43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445B-ABBC-4016-973D-4FB8A2C36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D5B8-AEDD-4D43-8667-1F0C32F2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F64D-7D07-4291-8C75-CA166E91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0E7C-72CE-4138-8C34-2081B24C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15FA-1ECB-4BA4-A2B7-2A85193FE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B856-90E3-4B5E-906A-ED464637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01E7-130C-4654-9A67-C10408EE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D832-1059-4ACE-8308-5C4023BD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2D7C-76A3-446E-91E5-AEA4F736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EA642-2319-456C-9C6D-A672FD83D5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