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356967"/>
        <c:axId val="64229560"/>
      </c:barChart>
      <c:catAx>
        <c:axId val="283569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29560"/>
        <c:crosses val="autoZero"/>
        <c:auto val="1"/>
        <c:lblAlgn val="ctr"/>
        <c:lblOffset val="100"/>
        <c:noMultiLvlLbl val="0"/>
      </c:catAx>
      <c:valAx>
        <c:axId val="642295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3569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87A0-5D89-4188-B4BE-B382FEEB9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6EEE-32A3-43F6-9806-E7623E44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0E38-FD87-4F9B-AB8D-3A485C8C3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4A1E-DF57-4C79-B16A-F7C97AF65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B2D5-FC87-4126-9D6E-27917CCE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9F69-56AE-4D51-ABC4-A611A709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0940-C87A-459B-8FD4-672252EC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0098-4410-4201-A6A1-3F25D40E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6C4C-6BB9-408F-AD9B-C18738B3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B110-48F4-4B85-AC10-D261F573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3A1C-C7ED-4BDA-9603-8A3B83EF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04E9-2B99-4E42-BCDE-AF23C1E4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5183A-1B8F-45A3-95F2-6DC0B4F995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