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3317194"/>
        <c:axId val="70545450"/>
      </c:barChart>
      <c:catAx>
        <c:axId val="633171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545450"/>
        <c:crosses val="autoZero"/>
        <c:auto val="1"/>
        <c:lblAlgn val="ctr"/>
        <c:lblOffset val="100"/>
        <c:noMultiLvlLbl val="0"/>
      </c:catAx>
      <c:valAx>
        <c:axId val="705454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3171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AC05-A15C-4849-83DC-8131853C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40081-E1CE-487E-9000-16620CFA9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45C5-6854-4EC4-9AAF-25CDFD31A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D9D31-1957-4FE9-A629-1C1BD491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90FF5-CA88-4F23-A5E0-979F6D21E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5ACC-1CBA-47DA-BB47-5CB5B307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27693-1902-49CA-81EC-AD363A84D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B2CE-78A3-4DE6-A2DB-CA02E5349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9413-9C3A-4238-8667-0BD51F27A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3AB2-DF60-407D-AFA2-45AF8DE48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2896-3B34-4CF7-B535-A91BDE2D3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117A-4BB5-4F13-838E-55E7CEE53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781C4-E4FE-4CEE-BBB0-6D92DC2C8B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