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52822"/>
        <c:axId val="4446993"/>
      </c:barChart>
      <c:catAx>
        <c:axId val="65952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6993"/>
        <c:crosses val="autoZero"/>
        <c:auto val="1"/>
        <c:lblAlgn val="ctr"/>
        <c:lblOffset val="100"/>
        <c:noMultiLvlLbl val="0"/>
      </c:catAx>
      <c:valAx>
        <c:axId val="4446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52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51F-E0E3-423D-AD29-19F7CBD4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684-A67D-47FE-8C85-5CC6AA02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384-F1F5-4D6A-8B34-7F933CDF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FA2-E9FD-4C04-B9D6-88314BDE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9CF-FE96-4FA1-A498-AAFE02F7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371-7728-4789-B643-30B43D63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185-5F78-4721-9200-39FF4339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646-1AC1-46CB-8B39-8E51DBA7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45A-525A-4947-B6B3-07E9F2F3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1CF-0217-487C-A3B4-09E82F4A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97A-5752-4E16-9502-D0D68CEC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258-41D8-44CC-B2F4-B1424A10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277C8-3B0A-4E61-B64E-D5433639AE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