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49996"/>
        <c:axId val="32027996"/>
      </c:barChart>
      <c:catAx>
        <c:axId val="611499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27996"/>
        <c:crosses val="autoZero"/>
        <c:auto val="1"/>
        <c:lblAlgn val="ctr"/>
        <c:lblOffset val="100"/>
        <c:noMultiLvlLbl val="0"/>
      </c:catAx>
      <c:valAx>
        <c:axId val="3202799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499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B7B8-D8BC-4B28-8ED0-D09405AC2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8117-7D10-4B5F-B161-AAD34E6F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D52A-91DF-4A64-B7F2-4A38FB5C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D5EE-A88D-47B4-9099-8F7EF816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8A07-BA70-441C-9159-E1FF0D11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3C51-916C-481A-B0AE-1AFF1F63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6E94-DD10-4FA8-A18A-6DF934541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6C1A-668C-4A22-B766-0CAEAC9DA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4D26-E7C4-42AC-8626-ACB1AAF0B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B5B0-AF8B-4878-9DF1-9A496B427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0CD9-1EF0-4DAE-987F-62DC670E2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9472-1DA1-4260-86B5-073FDCC42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BBC58-E41F-4C3F-8210-FAA0414899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