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424804"/>
        <c:axId val="3882432"/>
      </c:barChart>
      <c:catAx>
        <c:axId val="32424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2432"/>
        <c:crosses val="autoZero"/>
        <c:auto val="1"/>
        <c:lblAlgn val="ctr"/>
        <c:lblOffset val="100"/>
        <c:noMultiLvlLbl val="0"/>
      </c:catAx>
      <c:valAx>
        <c:axId val="3882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24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4FFC-BC00-45D5-A86B-5374F45A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0E9-0939-480A-83C2-53F7CA23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D21-10FF-45DF-8EC2-D22ACFB9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538-F174-4C18-82B4-77686787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D30-9C59-4FA0-B32A-74D6ABE9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B58-A214-4A28-81E4-910DF457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000-0FBA-4B24-9552-056CD7C0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D96-FF44-4CEA-BF8A-0A975B61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841D-4A3A-44DF-B52F-0C3A0A5F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CD62-707A-4C38-8680-CA2A28ED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3B0-443B-4B33-A1B9-EF94F992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A249-5A51-4750-A264-7341DBA4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064AB-FFA2-4B9E-8021-C5D7C5DBAD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