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55997"/>
        <c:axId val="28070151"/>
      </c:barChart>
      <c:catAx>
        <c:axId val="23855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70151"/>
        <c:crosses val="autoZero"/>
        <c:auto val="1"/>
        <c:lblAlgn val="ctr"/>
        <c:lblOffset val="100"/>
        <c:noMultiLvlLbl val="0"/>
      </c:catAx>
      <c:valAx>
        <c:axId val="28070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55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154-3AE2-4BF5-BBB7-146914BA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283-A6D0-44B0-AC6F-12E0D54B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A94-29D4-41D1-9F85-2A5C0B8B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258-B2A3-4D3C-ADE1-B3F074CA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467-A97D-4275-8201-0E66FA90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599-06CB-41F6-B029-7E2461EF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E28-CBA5-4DA3-A07F-3FCC6B85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C28-4484-467D-8D69-BC447907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0C5-D737-41E8-8FC5-10842886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166-4D5F-4A34-A912-E0E2DA59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9BB-E8F9-416C-8549-2DE6D0E3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4D2-68F3-4207-A28C-3D6EF09C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CCE71-99ED-46AB-B416-2D5473CB4D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