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805615"/>
        <c:axId val="4847939"/>
      </c:barChart>
      <c:catAx>
        <c:axId val="2280561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939"/>
        <c:crosses val="autoZero"/>
        <c:auto val="1"/>
        <c:lblAlgn val="ctr"/>
        <c:lblOffset val="100"/>
        <c:noMultiLvlLbl val="0"/>
      </c:catAx>
      <c:valAx>
        <c:axId val="48479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80561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A91-FC05-4286-A0D9-8D8B545B4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CEB5-09CF-4BEE-834D-E5FF97D6F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1160-5919-4FF4-A70B-ABB5DDBA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218A-CB54-4418-9F5A-35D7A7F61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AFC9-89EA-4D92-A29C-1EE36AE1C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BAD3-3EF7-417C-8450-CF619903B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A6696-A717-4001-8386-71C633CBD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2AB0F-C58E-4870-AD0F-CD56C947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C038-871B-46D4-918A-81168731E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0750-D048-4901-A074-F606F8F1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B211-AC72-4881-8659-713B79650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D794-73E9-4B20-A028-1799BEF8C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694820-A64A-4D4E-BEE5-9AA8EBF7E0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