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718627"/>
        <c:axId val="69879541"/>
      </c:barChart>
      <c:catAx>
        <c:axId val="877186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879541"/>
        <c:crosses val="autoZero"/>
        <c:auto val="1"/>
        <c:lblAlgn val="ctr"/>
        <c:lblOffset val="100"/>
        <c:noMultiLvlLbl val="0"/>
      </c:catAx>
      <c:valAx>
        <c:axId val="6987954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7186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DF1DE-EBDC-436F-A974-3283E649F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9BB0-B710-4E07-8800-4DB56AE0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A13D4-90D0-4273-8E7E-D8B2E9D1E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4ACE-D292-4283-AAB3-F0E767ECA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B908-B961-4E1C-A444-D053814DD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5A4-CF71-4348-8C68-364C39DF0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B311-2DF0-465A-B512-0FD068AF8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FC62-6836-453F-89E2-9A90883FF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47214-BE79-474E-86F5-E7FD1D501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F2175-A675-4B73-8A3E-A0E338FC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05A7F-D7F5-41BE-9865-E7E49D326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7639-9B2B-4C50-B7C7-7AF01DD1C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F0037E-1B8F-4D8A-B494-DA2DF4FD389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